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A336-DF91-4973-B1FC-9DCF076BA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D6DD-7986-4702-B3E5-7FED31CC1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rtboard can only be used with their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53CB-0509-473E-B6EE-B529D7933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more…Check fliggo (can create videos and set our own portal requirem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o each site and let them find something of their interest, give them a few min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7A63-1FE7-4DBF-B772-654FC2509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them Wordle and have them go to site and create one with any words from the inaugur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Implementation techn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dle resources how they are used in the classroom also off the 24518 webs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 for NY Times Inauguration words, history relation http://www.nytimes.com/interactive/2009/01/17/washington/20090117_ADDRESSES.html?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F225-BC94-477C-BAF7-85BA95C51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hour bre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ch Maes video start around 3:45 but watch it and decide where you want to start, remind everyone no one knows what the future will be lik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ther ideas?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6326-5461-4FA6-B0E2-2937806E1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hyperlink to view video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atching video at 4 minutes and 01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F8A0-6DAD-4D01-9CD4-6FE5AD1E7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CF23-EE9B-4B6F-9C1C-67A880536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grade and curriculum area would you like to concentrate on for day 2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y to pair up the people together for the next day. They can work as a team or indiividually on the pro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CDEC-38DE-4AAE-BE7A-A94F12BB4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google doc spreadsheet to have everyone to post their email addresses to contact each ot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ill help us prepare for day 2 as wel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nts will log onto Diigo at this time to access links to these two sites to perus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7DA9-0F71-4E57-8F35-FA529AA3D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 participants our delicious site that we create of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erson will create a delicious account and populate as they go maybe they want to do a district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social bookmarking, how is it beneficial to learners and essential question-how is this going to be us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w how to export from their bookmarks and transfer over-get handout from Ph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meber asks What are your thoughtson the concept that publishing student work for a global audience can lead to more effore and reflective review by the stude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ud Computing-discuss colloboration-Phil will give us a slide hand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roductivity tools in afternoon-google doccs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3AD0-BB89-42C8-A690-29C67BF88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responsibilities do schools have about teaching students the ethics about blogging-November qu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79A8-8021-4464-9407-63E6C07FF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c users s can use gargage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 minutes for each top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FF73-2BE2-418B-8C69-B31A81A17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responsibilities do schools have about teaching students the ethics about blogging-November quo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18B-C8D4-46B2-B9C6-D9F50D91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843-9B12-4866-ADFA-C41169FF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069-B1EF-4663-AE22-E61BD1D1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960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70174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0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6960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70174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2BE1-0D6C-4E1B-BDFC-976D1914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0554-D2C2-4F17-8CEC-15BB32E66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A873-9A02-4F40-B738-899A67F7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1E13-88E6-45DF-AE7C-5CE16811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0804-955C-49A1-A2DE-3EADBD1B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3CFD-CB87-4721-81F3-7BAFCBBD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080" y="334800"/>
            <a:ext cx="81262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C317-086E-478D-A767-00E3A297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8C26-4624-48BC-93DA-F9E80C5F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8CA-64F8-4A48-A5DB-6BB472AA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F17DA-48A9-4F01-A6A6-5AFD8329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511B-3BF6-4334-827F-DA948190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8644-428A-4B10-A320-3DB8BF4D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053A-2B01-4B32-9841-E2A70312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6960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017480" y="203040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0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6960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017480" y="4418640"/>
            <a:ext cx="26164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8AA5-F804-4247-A505-F3B7D49E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F26-F68E-4524-A6EA-810F4814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46A-99A9-4F1D-BBB2-35834962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776A-7727-4AC8-A012-37F71FA9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080" y="334800"/>
            <a:ext cx="812628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3B0-DB3A-49CB-94D9-B699AA43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C3B-AA61-4CB4-9D36-DE60EB32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86200" y="441864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A04-072F-4805-BAA1-925C17F0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08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6200" y="2030400"/>
            <a:ext cx="396540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080" y="4418640"/>
            <a:ext cx="8126280" cy="2180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CE4-CB3C-4C73-BFEB-5984A37B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598920" y="0"/>
            <a:ext cx="13250520" cy="4233600"/>
            <a:chOff x="-3598920" y="0"/>
            <a:chExt cx="13250520" cy="4233600"/>
          </a:xfrm>
        </p:grpSpPr>
        <p:sp>
          <p:nvSpPr>
            <p:cNvPr id="1" name=""/>
            <p:cNvSpPr/>
            <p:nvPr/>
          </p:nvSpPr>
          <p:spPr>
            <a:xfrm>
              <a:off x="-3598920" y="762120"/>
              <a:ext cx="4572000" cy="3471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695680" y="0"/>
              <a:ext cx="3437640" cy="3505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3520" y="1693440"/>
              <a:ext cx="812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080" y="334800"/>
            <a:ext cx="8126280" cy="1270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522080" y="2030400"/>
            <a:ext cx="8126280" cy="4572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5480" indent="-31752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5416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778040" indent="-25416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286000" indent="-254160">
              <a:spcBef>
                <a:spcPts val="799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28600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286000" indent="-2541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FB38714D-B1E1-4E95-A79D-B42A1D2DC258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581280" y="338040"/>
            <a:ext cx="13232520" cy="5249520"/>
            <a:chOff x="-3581280" y="338040"/>
            <a:chExt cx="13232520" cy="5249520"/>
          </a:xfrm>
        </p:grpSpPr>
        <p:sp>
          <p:nvSpPr>
            <p:cNvPr id="46" name=""/>
            <p:cNvSpPr/>
            <p:nvPr/>
          </p:nvSpPr>
          <p:spPr>
            <a:xfrm>
              <a:off x="1608120" y="2793240"/>
              <a:ext cx="804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794320" y="1523160"/>
              <a:ext cx="4064040" cy="40644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581280" y="338040"/>
              <a:ext cx="4487400" cy="44874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5920"/>
                  <a:tab algn="l" pos="2031840"/>
                  <a:tab algn="l" pos="3048120"/>
                  <a:tab algn="l" pos="4064040"/>
                  <a:tab algn="l" pos="5079960"/>
                  <a:tab algn="l" pos="6095880"/>
                  <a:tab algn="l" pos="7112160"/>
                  <a:tab algn="l" pos="8128080"/>
                  <a:tab algn="l" pos="9144000"/>
                  <a:tab algn="l" pos="10159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3440" y="1095480"/>
            <a:ext cx="8043840" cy="1604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0796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71840" y="6941880"/>
            <a:ext cx="3216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81720" y="6941880"/>
            <a:ext cx="2370240" cy="507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fld id="{138667CF-24EA-417E-8E9F-03B9D06EC351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21stcenturysupervision.ning.com/video/medieval-helpdesk-with-english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L0Pu61YkGPk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835200" y="1533600"/>
            <a:ext cx="9124920" cy="2467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65160" y="396252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follow the instructions included in the handout to create a Diigo account.  If you already have an account, please go directly to our group link and sign i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552600" y="1695600"/>
            <a:ext cx="905508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ac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eencast-O-Matic; J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Podcasts and Screenc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Video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52600" y="1695600"/>
            <a:ext cx="90550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Tu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rtub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552600" y="1695600"/>
            <a:ext cx="9055080" cy="51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Do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h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rib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Poi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ocument Sha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10960" y="261288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846000" y="1353960"/>
            <a:ext cx="8510760" cy="53564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806400" y="6994440"/>
            <a:ext cx="803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techlearning.com/blogs/245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50960" y="1936800"/>
            <a:ext cx="8658000" cy="2063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1560" y="980640"/>
            <a:ext cx="8988120" cy="52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think of these pictures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Which one is real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3"/>
          <a:stretch/>
        </p:blipFill>
        <p:spPr>
          <a:xfrm>
            <a:off x="1936800" y="2274840"/>
            <a:ext cx="2741400" cy="2022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4"/>
          <a:stretch/>
        </p:blipFill>
        <p:spPr>
          <a:xfrm>
            <a:off x="2438280" y="4470480"/>
            <a:ext cx="283716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552600" y="1695600"/>
            <a:ext cx="905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ve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chive.org for the WayBackMach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1343160"/>
            <a:ext cx="940896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1011240" y="1249200"/>
            <a:ext cx="8035920" cy="12128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84280" y="6172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55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ttp://www.youtube.com/watch?v=ZLEEiQZOYDs&amp;feature=related#t=0m49s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1200" indent="0">
              <a:spcBef>
                <a:spcPts val="4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031840" y="2590920"/>
            <a:ext cx="60771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3720" y="169920"/>
            <a:ext cx="9144000" cy="12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 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  <a:ea typeface="Arial"/>
              </a:rPr>
              <a:t>The Future is Here….</a:t>
            </a:r>
            <a:br>
              <a:rPr sz="40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  <a:ea typeface="Arial"/>
              </a:rPr>
              <a:t>(Full Presentation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43" name="ShockwaveFlash1"/>
          <p:cNvGraphicFramePr/>
          <p:nvPr/>
        </p:nvGraphicFramePr>
        <p:xfrm>
          <a:off x="932040" y="1523880"/>
          <a:ext cx="804204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523880"/>
                    <a:ext cx="8042040" cy="4826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552600" y="2049480"/>
            <a:ext cx="905508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e in professional learning communit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tilize free web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21st century technology skills across the curricul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instorm ideas for the next ses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552600" y="1660680"/>
            <a:ext cx="905508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cc"/>
                </a:solidFill>
                <a:latin typeface="Arial"/>
              </a:rPr>
              <a:t>Review the pre test resu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 Day 2 o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ct-what tool they think was most useful and want to u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ainstorm their idea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552600" y="1695600"/>
            <a:ext cx="9055080" cy="43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 to exit surve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you know what curriculum area you want to conduct your project in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grade level?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tool you found to be the best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2 tools would you like to focus on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mework Assignment: use one of the tools before next sess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 email addresses or create gro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210960" y="295200"/>
            <a:ext cx="94521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2279520" y="6345360"/>
            <a:ext cx="6785280" cy="939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540160" y="3449520"/>
            <a:ext cx="5079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youtube.com/watch?v=L0Pu61YkGP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6200" y="228240"/>
            <a:ext cx="863604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  <a:ea typeface="Arial"/>
                <a:hlinkClick r:id="rId2"/>
              </a:rPr>
              <a:t>The More Things Change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3" name="ShockwaveFlash1"/>
          <p:cNvGraphicFramePr/>
          <p:nvPr/>
        </p:nvGraphicFramePr>
        <p:xfrm>
          <a:off x="846000" y="1440000"/>
          <a:ext cx="8042400" cy="491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6000" y="1440000"/>
                    <a:ext cx="8042400" cy="491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657600"/>
            <a:ext cx="5003640" cy="838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21</a:t>
            </a:r>
            <a:r>
              <a:rPr b="0" lang="en-US" sz="40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 Century Skill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6200" y="2057400"/>
            <a:ext cx="8636040" cy="1752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: Please peruse the two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ill sites below and then explore and identify connections to your content area standards.   The links are available on Diigo.  We will discuss any connections you identify in your explor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5613480" y="3429000"/>
            <a:ext cx="378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NJ Stand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70680" y="4724280"/>
            <a:ext cx="358128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 of NJ Department of Education: NJCC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Our Standards and the 21</a:t>
            </a:r>
            <a:r>
              <a:rPr b="1" lang="en-US" sz="40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Century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2880" y="4724280"/>
            <a:ext cx="4572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hip for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ny Wagner’s Surviv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431640" y="1905120"/>
            <a:ext cx="905544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Bookmar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 Conferencing T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s and Blog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dcasts &amp; Screenc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 Shar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10960" y="0"/>
            <a:ext cx="945216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552600" y="1695600"/>
            <a:ext cx="905508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ebook; My Sp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itter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ng; Linked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552600" y="1828800"/>
            <a:ext cx="914076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ig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l.icio.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Social Bookmar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552600" y="1695600"/>
            <a:ext cx="905508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kyp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lluminate vRo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eb Conferencing T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552600" y="1695600"/>
            <a:ext cx="90550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kispaces; PBworks; Wetpain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dublogs; Wordpress; Blogger; LiveJourn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680" y="4876920"/>
            <a:ext cx="863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: In Diigo, please follow the link for Instructional Media Center: Blog All About 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880" y="457200"/>
            <a:ext cx="863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ikis and Bl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hunterdon central</cp:lastModifiedBy>
  <dcterms:modified xsi:type="dcterms:W3CDTF">2010-07-09T19:57:41Z</dcterms:modified>
  <cp:revision>21</cp:revision>
  <dc:subject/>
  <dc:title>PowerPoint Presentation</dc:title>
</cp:coreProperties>
</file>